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E68-73E7-443C-BEB2-2A033604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C5A1-36BC-43CC-A1A7-460A179CD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449-5157-4228-BFE6-81C5C05E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8361-7BD9-4820-8EE7-F9509C793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E32F-F206-46DF-8E26-BEC01367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D57-1BD5-48F2-AFC8-D46BCEB2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8AD-355A-4691-AAFC-6C444FDF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BF5-F798-4EAC-9614-74EB9EB0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B732-9781-4846-B664-31682407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6E70-43F0-4791-9518-AD8E1167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9BE-ECD5-4791-8995-675CEBAC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67C-C0DB-4205-B4B7-B5287F41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48D8-4E47-4A9A-906C-C3ADFB38C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9360" y="-4680"/>
            <a:ext cx="916272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99700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Center of Financial Technologies, Inc. (CF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896240" y="2133720"/>
            <a:ext cx="124776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0" y="0"/>
            <a:ext cx="9144000" cy="6853320"/>
            <a:chOff x="0" y="0"/>
            <a:chExt cx="9144000" cy="685332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2"/>
            <a:stretch/>
          </p:blipFill>
          <p:spPr>
            <a:xfrm>
              <a:off x="7896240" y="0"/>
              <a:ext cx="12477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ozuka Gothic Pro B"/>
              </a:rPr>
              <a:t>SWOT -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1628640"/>
            <a:ext cx="0" cy="52293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94520" y="155736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treng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30000" y="416880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54000" y="150480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Weak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45440" y="41497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re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1840" y="1987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1600" y="2031840"/>
            <a:ext cx="3556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development and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partnerships with ba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argest IT-company working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financial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hesive professional te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64320" y="2033640"/>
            <a:ext cx="36597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ensive hardware and proc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of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information about the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ification requ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much time for develop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5680" y="4697280"/>
            <a:ext cx="414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pportunity to unify busines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ce to standardize the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ce to involve highly skilled person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sibility of using new technolog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58560" y="465300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worthy riv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satu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ck of highly skilled personn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0" y="4680"/>
            <a:ext cx="9144000" cy="6853320"/>
            <a:chOff x="0" y="4680"/>
            <a:chExt cx="9144000" cy="685332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0" y="468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2"/>
            <a:stretch/>
          </p:blipFill>
          <p:spPr>
            <a:xfrm>
              <a:off x="7896240" y="4680"/>
              <a:ext cx="12477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490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ozuka Gothic Pro B"/>
              </a:rPr>
              <a:t>SWOT -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1520" y="2924280"/>
            <a:ext cx="77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T holds 40% of the market. Making emphasis 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uitment of highly skilled personnel allow CFT t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 the sphere of influence and increase sha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 the market, even during the financial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896240" y="4680"/>
            <a:ext cx="1247760" cy="438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0920" y="1704960"/>
            <a:ext cx="8640720" cy="50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250920" y="2212920"/>
            <a:ext cx="864216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ozuka Gothic Pro B"/>
              </a:rPr>
              <a:t>S</a:t>
            </a: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120" y="1720800"/>
            <a:ext cx="24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3880" y="1871640"/>
            <a:ext cx="26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ommon vision of the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200" y="2476440"/>
            <a:ext cx="722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Leadership in the management of innovation projects in the field of IT to financial marke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250920" y="3282840"/>
            <a:ext cx="8640720" cy="505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250920" y="3790800"/>
            <a:ext cx="8642160" cy="933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5240" y="3400560"/>
            <a:ext cx="21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eograph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9360" y="3787920"/>
            <a:ext cx="4144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mmonwealth of Independent States (CIS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outh Eastern As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0920" y="4867200"/>
            <a:ext cx="8640720" cy="505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250920" y="5375160"/>
            <a:ext cx="8642160" cy="9334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08520" y="498492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arket spec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9480" y="5435640"/>
            <a:ext cx="2440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ing system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ustomer service syste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oyalt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896240" y="4680"/>
            <a:ext cx="1247760" cy="43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50920" y="1704960"/>
            <a:ext cx="864072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50920" y="2212920"/>
            <a:ext cx="8642160" cy="9334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ozuka Gothic Pro B"/>
              </a:rPr>
              <a:t>S</a:t>
            </a: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trate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9000" y="17971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The project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ark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60" y="2349360"/>
            <a:ext cx="3306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Long-term partnerships with bank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Processing of a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mass payment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Ahead of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tre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50920" y="3211560"/>
            <a:ext cx="8640720" cy="504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0920" y="3719520"/>
            <a:ext cx="8642160" cy="933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17160" y="3328920"/>
            <a:ext cx="25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The project,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360" y="3789360"/>
            <a:ext cx="449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Single Platfor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The optimal combination of security and functional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50920" y="4795920"/>
            <a:ext cx="8640720" cy="504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50920" y="5303880"/>
            <a:ext cx="8642160" cy="573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6120" y="4902120"/>
            <a:ext cx="2681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The project,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anagement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3840" y="5400720"/>
            <a:ext cx="23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Cohe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fession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0" y="4680"/>
            <a:ext cx="9144000" cy="6853320"/>
            <a:chOff x="0" y="4680"/>
            <a:chExt cx="9144000" cy="68533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tretch/>
          </p:blipFill>
          <p:spPr>
            <a:xfrm>
              <a:off x="0" y="468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7896240" y="4680"/>
              <a:ext cx="12477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ozuka Gothic Pro B"/>
              </a:rPr>
              <a:t>Share of</a:t>
            </a: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 the mark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9120" y="1720800"/>
            <a:ext cx="794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Center Financial Technologies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s 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a leader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f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the development of banking software </a:t>
            </a: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in Rus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3213000"/>
            <a:ext cx="3743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o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the seven major software developers in Russia.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he largest it-company working for financial sector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ver 40% of Russian bank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CFT’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client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211640" y="2492280"/>
            <a:ext cx="4537080" cy="3660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93040" y="6323040"/>
            <a:ext cx="410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nformation taken from the site http://www.kommersant.r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896240" y="4680"/>
            <a:ext cx="1247760" cy="438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The structure of 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844640"/>
            <a:ext cx="3240360" cy="64764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anking syste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3280" y="1844640"/>
            <a:ext cx="3240360" cy="647640"/>
          </a:xfrm>
          <a:prstGeom prst="rect">
            <a:avLst/>
          </a:prstGeom>
          <a:solidFill>
            <a:srgbClr val="cc0000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etail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67280" y="2133720"/>
            <a:ext cx="576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3280" y="2781360"/>
            <a:ext cx="3241800" cy="64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3645000"/>
            <a:ext cx="3241800" cy="64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43280" y="4581360"/>
            <a:ext cx="3241800" cy="6480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3280" y="5589720"/>
            <a:ext cx="3241800" cy="6476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3280" y="2805120"/>
            <a:ext cx="32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The system of pa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services «Golden Crown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16360" y="3645000"/>
            <a:ext cx="31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Interbank Processing Cen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of electronic docu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3280" y="4748040"/>
            <a:ext cx="32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The federal system «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ity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95840" y="5756400"/>
            <a:ext cx="31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CFT -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 Loyal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2781360"/>
            <a:ext cx="324036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Integrated automation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banking busin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(CFT – Bank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149720"/>
            <a:ext cx="3240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Integrated retail front-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(CFT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- Front-office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)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5157720"/>
            <a:ext cx="324036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Bank Manage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(CFT - </a:t>
            </a:r>
            <a:r>
              <a:rPr b="1" lang="ru-RU" sz="1600" spc="-1" strike="noStrike">
                <a:solidFill>
                  <a:srgbClr val="808080"/>
                </a:solidFill>
                <a:latin typeface="Arial"/>
              </a:rPr>
              <a:t>Budget planning</a:t>
            </a: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2492280"/>
            <a:ext cx="0" cy="2890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1280" y="3860640"/>
            <a:ext cx="0" cy="2890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4869000"/>
            <a:ext cx="0" cy="2872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00720" y="2492280"/>
            <a:ext cx="0" cy="2890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429000"/>
            <a:ext cx="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00720" y="5229360"/>
            <a:ext cx="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4292640"/>
            <a:ext cx="0" cy="2887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896240" y="4680"/>
            <a:ext cx="1247760" cy="438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The advantages of bank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2346480"/>
            <a:ext cx="835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sing a set of integrated software products, а big multibranch Ban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tand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ze the software, technology,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nify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reate a multi-front-office bank with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set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f services across the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Reduce costs for the establishment and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a unifie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T-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3320"/>
            <a:chOff x="0" y="0"/>
            <a:chExt cx="9144000" cy="68533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896240" y="0"/>
              <a:ext cx="12477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Leading cl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9120" y="1719360"/>
            <a:ext cx="5672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ber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ank of the Russian Fed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azpromb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Uralsib. Financial Corpo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ank Petrocommer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DeltaCredit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Bank Ak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Gorodskoy Ipotech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47815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ur company’s motto is "innovation and reasonable pragmatism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Following these key principles allows CFT to increase sales by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5-4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nd profit growth of more than 50% per year.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96240" y="4680"/>
            <a:ext cx="1247760" cy="4381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Kozuka Gothic Pro B"/>
              </a:rPr>
              <a:t>Loyalty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5040" y="1773360"/>
            <a:ext cx="540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Types of loyalty programs: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gift car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nus cards (local, coalition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prepaid car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o-branded cards (bank and commercial networ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2160" y="3429000"/>
            <a:ext cx="535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Consumers (clients) use of loy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ain salons Cellular 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yazno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network of bookshops "Top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iga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Chain stores of goods for childr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Detskiy Mir”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n official partner of the North-West region of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leaders of the computer industry «Key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 network of shops «MEXX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0"/>
            <a:ext cx="9144000" cy="6853320"/>
            <a:chOff x="0" y="0"/>
            <a:chExt cx="9144000" cy="68533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7896240" y="0"/>
              <a:ext cx="124776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92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Kozuka Gothic Pro B"/>
              </a:rPr>
              <a:t>Technological partn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60000" y="1989000"/>
            <a:ext cx="3303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a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sco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 Micro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aftway Compa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08:01:48Z</dcterms:created>
  <dc:creator>Шарова</dc:creator>
  <dc:description/>
  <dc:language>en-US</dc:language>
  <cp:lastModifiedBy>Шарова</cp:lastModifiedBy>
  <dcterms:modified xsi:type="dcterms:W3CDTF">2008-10-28T21:41:05Z</dcterms:modified>
  <cp:revision>34</cp:revision>
  <dc:subject/>
  <dc:title>Center of Financial Technologies, Inc. (CFT)</dc:title>
</cp:coreProperties>
</file>